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1.png" ContentType="image/png"/>
  <Override PartName="/ppt/media/image19.jpeg" ContentType="image/jpeg"/>
  <Override PartName="/ppt/media/image13.png" ContentType="image/png"/>
  <Override PartName="/ppt/media/image37.jpeg" ContentType="image/jpeg"/>
  <Override PartName="/ppt/media/image30.png" ContentType="image/png"/>
  <Override PartName="/ppt/media/image8.jpeg" ContentType="image/jpeg"/>
  <Override PartName="/ppt/media/image34.png" ContentType="image/png"/>
  <Override PartName="/ppt/media/image33.jpeg" ContentType="image/jpeg"/>
  <Override PartName="/ppt/media/image5.wmf" ContentType="image/x-wmf"/>
  <Override PartName="/ppt/media/image35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wmf" ContentType="image/x-wmf"/>
  <Override PartName="/ppt/media/image7.jpeg" ContentType="image/jpeg"/>
  <Override PartName="/ppt/media/image28.jpeg" ContentType="image/jpeg"/>
  <Override PartName="/ppt/media/image20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6C2E-FD24-49DA-B917-448CEE2F3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8925-BE39-4EB5-9E8D-3C4FD8D2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7C23-8588-445E-A390-49382E90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622F-47D7-47DD-A6F7-28A8A01D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83D0-B2A0-4747-8E34-CC7B2B464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760D-CD79-44D2-8336-447E6B96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239-7B7D-4B68-B373-D803813C1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7F76-E7C4-440F-91C4-D410B877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6EB5-6A0A-425E-B95B-5B3636240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C94E-F3E2-4DC5-9CAC-49A9121B2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38D-B5EA-499F-AB81-1D6E15E0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F6B8-3E68-4267-9D19-FB142A89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CDF1-8867-4C57-A8F7-92D20E06E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FD3C-98A5-4E30-B537-418D85AF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4A1C-FD20-4C84-B5B0-C8C31DC03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B86-0830-4D87-9599-6CC74655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93B7-7C21-4B22-A97E-919DDE216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81C5-C14C-4589-B167-1A2EB02F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961-4BEB-49EB-9812-88D916F95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7676-F524-4C8F-AA4A-70F7322AC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548-8977-4EBB-8EF2-560909E7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F826-1F7C-4F06-881F-ED7B61E4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2E7F-2018-4294-B07F-7F91CD51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A41A-A663-49F0-A0BB-7C59F301B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AF3-ABE6-4758-9C54-2EFBEF63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7B3-F048-45F9-8F1F-BBE876E3C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F178-5A74-4857-A7FF-203771F1C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B40D-8443-47F6-8CB3-4B7BCB22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1B1-0078-4F16-8F64-C0A939B1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052-913C-4FC5-AD4C-BAB15F28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37F-7101-4CA8-AB3D-F2473482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B7D-9282-4AE0-A7E9-2FE29A3B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FD9-33C2-4263-BA62-AA19BAAE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DCF-93D4-44A0-836C-F16C73E8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92B5-99BE-47E1-9011-CB3DE4B4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F573-4EB0-404C-82B7-E836FDA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E32-1231-4307-8BCB-0C964341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F18-9DD6-4957-AE61-80FAB3D8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C13-7D1B-4932-AD0E-E5396BD3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BCF-E3B5-4349-8941-126C7023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B0EA-6205-4F5D-B55A-C4164E96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F469-D0B3-4D7C-8F0C-A1648E27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ket.unitedstream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19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4.xml"/><Relationship Id="rId8" Type="http://schemas.openxmlformats.org/officeDocument/2006/relationships/slide" Target="slide18.xml"/><Relationship Id="rId9" Type="http://schemas.openxmlformats.org/officeDocument/2006/relationships/slide" Target="slide23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hyperlink" Target="http://www.slideshare.net/secret/CO4wzEX0rB9AR6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0.png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5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ket.cre8tivegroup.com/rr/" TargetMode="Externa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education/professional/" TargetMode="External"/><Relationship Id="rId2" Type="http://schemas.openxmlformats.org/officeDocument/2006/relationships/hyperlink" Target="http://www.literacywithoutlimits.org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et.cre8tivegroup.com/rr/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ket.cre8tivegroup.com/rr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structional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2209680"/>
            <a:ext cx="89154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wo 15-minute programs – one for grades 3-5 , one for Grades 6-8.   The programs contain: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tual visit to a watershed, showing Kentucky rivers flowing into 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larger basins and ultimately, the Gulf of Mexico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fic Kentucky geography including urban and rural settings,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mountains, rivers and streams, karst, sinkholes, and wetland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s the most common forms of nonpoint (nps) sourc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pollution and what can be done to help eliminat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some of its forms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8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dition now availabl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3" name="Action Button: Custom 7">
            <a:hlinkClick r:id="rId2"/>
          </p:cNvPr>
          <p:cNvSpPr/>
          <p:nvPr/>
        </p:nvSpPr>
        <p:spPr>
          <a:xfrm>
            <a:off x="3581280" y="59436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914400" y="15238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s a brand new web address!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check it ou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5" descr="Encyclomedia-1"/>
          <p:cNvPicPr/>
          <p:nvPr/>
        </p:nvPicPr>
        <p:blipFill>
          <a:blip r:embed="rId1"/>
          <a:stretch/>
        </p:blipFill>
        <p:spPr>
          <a:xfrm>
            <a:off x="685800" y="152280"/>
            <a:ext cx="746748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914400" y="327672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http://ket.unitedstreaming.com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10">
            <a:hlinkClick r:id="rId2"/>
          </p:cNvPr>
          <p:cNvSpPr/>
          <p:nvPr/>
        </p:nvSpPr>
        <p:spPr>
          <a:xfrm>
            <a:off x="762120" y="3200400"/>
            <a:ext cx="7619760" cy="1219320"/>
          </a:xfrm>
          <a:custGeom>
            <a:avLst/>
            <a:gdLst>
              <a:gd name="textAreaLeft" fmla="*/ 78840 w 7619760"/>
              <a:gd name="textAreaRight" fmla="*/ 7540920 w 7619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134949" h="21600">
                <a:moveTo>
                  <a:pt x="0" y="0"/>
                </a:moveTo>
                <a:lnTo>
                  <a:pt x="134949" y="0"/>
                </a:lnTo>
                <a:lnTo>
                  <a:pt x="134949" y="21600"/>
                </a:lnTo>
                <a:lnTo>
                  <a:pt x="0" y="21600"/>
                </a:lnTo>
                <a:close/>
              </a:path>
              <a:path fill="lightenLess" w="134949" h="21600">
                <a:moveTo>
                  <a:pt x="0" y="0"/>
                </a:moveTo>
                <a:lnTo>
                  <a:pt x="134949" y="0"/>
                </a:lnTo>
                <a:lnTo>
                  <a:pt x="133549" y="1400"/>
                </a:lnTo>
                <a:lnTo>
                  <a:pt x="1400" y="1400"/>
                </a:lnTo>
                <a:close/>
              </a:path>
              <a:path fill="darken" w="134949" h="21600">
                <a:moveTo>
                  <a:pt x="134949" y="0"/>
                </a:moveTo>
                <a:lnTo>
                  <a:pt x="134949" y="21600"/>
                </a:lnTo>
                <a:lnTo>
                  <a:pt x="133549" y="20200"/>
                </a:lnTo>
                <a:lnTo>
                  <a:pt x="133549" y="1400"/>
                </a:lnTo>
                <a:close/>
              </a:path>
              <a:path fill="darkenLess" w="134949" h="21600">
                <a:moveTo>
                  <a:pt x="134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49" y="20200"/>
                </a:lnTo>
                <a:close/>
              </a:path>
              <a:path fill="lighten" w="134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7" name="_s1028"/>
            <p:cNvCxnSpPr>
              <a:stCxn id="138" idx="0"/>
              <a:endCxn id="139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0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1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6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9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5141880" y="449568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rning About Plants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4" name="Picture 9" descr="plant with pistil indicated.jpg"/>
          <p:cNvPicPr/>
          <p:nvPr/>
        </p:nvPicPr>
        <p:blipFill>
          <a:blip r:embed="rId3"/>
          <a:stretch/>
        </p:blipFill>
        <p:spPr>
          <a:xfrm>
            <a:off x="4343400" y="129528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762120" y="3352680"/>
            <a:ext cx="6400800" cy="106704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129534" h="21600">
                <a:moveTo>
                  <a:pt x="0" y="0"/>
                </a:moveTo>
                <a:lnTo>
                  <a:pt x="129534" y="0"/>
                </a:lnTo>
                <a:lnTo>
                  <a:pt x="129534" y="21600"/>
                </a:lnTo>
                <a:lnTo>
                  <a:pt x="0" y="21600"/>
                </a:lnTo>
                <a:close/>
              </a:path>
              <a:path fill="lightenLess" w="129534" h="21600">
                <a:moveTo>
                  <a:pt x="0" y="0"/>
                </a:moveTo>
                <a:lnTo>
                  <a:pt x="129534" y="0"/>
                </a:lnTo>
                <a:lnTo>
                  <a:pt x="128134" y="1400"/>
                </a:lnTo>
                <a:lnTo>
                  <a:pt x="1400" y="1400"/>
                </a:lnTo>
                <a:close/>
              </a:path>
              <a:path fill="darken" w="129534" h="21600">
                <a:moveTo>
                  <a:pt x="129534" y="0"/>
                </a:moveTo>
                <a:lnTo>
                  <a:pt x="129534" y="21600"/>
                </a:lnTo>
                <a:lnTo>
                  <a:pt x="128134" y="20200"/>
                </a:lnTo>
                <a:lnTo>
                  <a:pt x="128134" y="1400"/>
                </a:lnTo>
                <a:close/>
              </a:path>
              <a:path fill="darkenLess" w="129534" h="21600">
                <a:moveTo>
                  <a:pt x="129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4" y="20200"/>
                </a:lnTo>
                <a:close/>
              </a:path>
              <a:path fill="lighten" w="129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80880" y="61056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lideshare.net/secret/CO4wzEX0rB9AR6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0880" y="5638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lideshare Secret Code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“OK” when finished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7" name="Picture 15" descr="block_exterior.jpg"/>
          <p:cNvPicPr/>
          <p:nvPr/>
        </p:nvPicPr>
        <p:blipFill>
          <a:blip r:embed="rId1"/>
          <a:stretch/>
        </p:blipFill>
        <p:spPr>
          <a:xfrm>
            <a:off x="6858000" y="49528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5">
            <a:hlinkClick r:id="rId2" action="ppaction://hlinksldjump"/>
          </p:cNvPr>
          <p:cNvSpPr/>
          <p:nvPr/>
        </p:nvSpPr>
        <p:spPr>
          <a:xfrm>
            <a:off x="68580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52388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is a Citizen?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91" name="Who is a citizen.asx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83818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7301" y="12337"/>
                </a:moveTo>
                <a:lnTo>
                  <a:pt x="17806" y="5330"/>
                </a:lnTo>
                <a:lnTo>
                  <a:pt x="17806" y="19343"/>
                </a:lnTo>
                <a:close/>
              </a:path>
              <a:path fill="darken" w="21600" h="24673">
                <a:moveTo>
                  <a:pt x="3794" y="5330"/>
                </a:moveTo>
                <a:lnTo>
                  <a:pt x="5456" y="5330"/>
                </a:lnTo>
                <a:lnTo>
                  <a:pt x="5456" y="19343"/>
                </a:lnTo>
                <a:lnTo>
                  <a:pt x="3794" y="193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PhotoStory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13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sing EncycloMedia With Inspiration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2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9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1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5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9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0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42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3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45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6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7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9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50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7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7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14040" y="12189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MCj02167380000[1]"/>
          <p:cNvPicPr/>
          <p:nvPr/>
        </p:nvPicPr>
        <p:blipFill>
          <a:blip r:embed="rId1"/>
          <a:stretch/>
        </p:blipFill>
        <p:spPr>
          <a:xfrm>
            <a:off x="7010280" y="5226120"/>
            <a:ext cx="213372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Using Video Learning Objects in the Classroo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3124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1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1106640"/>
            <a:ext cx="8839440" cy="53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1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Introduce new units, topics and concepts.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ddress core content needs 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across the curriculum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Use to</a:t>
            </a:r>
            <a:r>
              <a:rPr b="1" lang="en-US" sz="32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show peoples’ emotions and internal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dialogue to create student empathy with 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characters in practical living scenario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Appeals to school age viewer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through pacing, young actor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    narrators, and effect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6" name="Picture 5" descr="The image “file:///C:/Documents%20and%20Settings/lmoore/My%20Documents/My%20Pictures/MVC-001S.JPG” cannot be displayed, because it contains errors."/>
          <p:cNvPicPr/>
          <p:nvPr/>
        </p:nvPicPr>
        <p:blipFill>
          <a:blip r:embed="rId5"/>
          <a:stretch/>
        </p:blipFill>
        <p:spPr>
          <a:xfrm>
            <a:off x="5867280" y="44956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5867280" y="4495680"/>
            <a:ext cx="2971800" cy="2210040"/>
          </a:xfrm>
          <a:prstGeom prst="rect">
            <a:avLst/>
          </a:prstGeom>
          <a:noFill/>
          <a:ln w="5724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Brings the outside world into th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classroom such as field trips/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Demonstrates abstract concepts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nd  processes visually through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a variety of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ters to Gardner’s Multiple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Intelligences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used to differentiate instruction 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for individual students or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d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Can be manipulated by the students</a:t>
            </a:r>
            <a:br>
              <a:rPr sz="2800"/>
            </a:br>
            <a:r>
              <a:rPr b="1" lang="en-US" sz="2800" spc="-1" strike="noStrike">
                <a:solidFill>
                  <a:srgbClr val="ffdd11"/>
                </a:solidFill>
                <a:latin typeface="Arial"/>
              </a:rPr>
              <a:t> to make it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09480" y="15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e957"/>
                </a:solidFill>
                <a:uFillTx/>
                <a:latin typeface="Arial"/>
              </a:rPr>
              <a:t>Video Learning Objects in the Classroom 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1" name="Picture 5" descr="MPj03997530000[1]"/>
          <p:cNvPicPr/>
          <p:nvPr/>
        </p:nvPicPr>
        <p:blipFill>
          <a:blip r:embed="rId1"/>
          <a:stretch/>
        </p:blipFill>
        <p:spPr>
          <a:xfrm>
            <a:off x="6781680" y="1143000"/>
            <a:ext cx="2186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3"/>
          <a:stretch/>
        </p:blipFill>
        <p:spPr>
          <a:xfrm>
            <a:off x="5638680" y="438624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7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5"/>
          <a:stretch/>
        </p:blipFill>
        <p:spPr>
          <a:xfrm>
            <a:off x="2225520" y="4419720"/>
            <a:ext cx="3184560" cy="1676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213372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3657600" y="3886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indropstorivers.org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04920" y="15228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teracy Without Limi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AutoShape 14">
            <a:hlinkClick r:id="rId1"/>
          </p:cNvPr>
          <p:cNvSpPr/>
          <p:nvPr/>
        </p:nvSpPr>
        <p:spPr>
          <a:xfrm>
            <a:off x="5715000" y="0"/>
            <a:ext cx="762120" cy="47242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4724280"/>
              <a:gd name="textAreaBottom" fmla="*/ 4674960 h 4724280"/>
            </a:gdLst>
            <a:ahLst/>
            <a:rect l="textAreaLeft" t="textAreaTop" r="textAreaRight" b="textAreaBottom"/>
            <a:pathLst>
              <a:path w="21600" h="133842">
                <a:moveTo>
                  <a:pt x="0" y="0"/>
                </a:moveTo>
                <a:lnTo>
                  <a:pt x="21600" y="0"/>
                </a:lnTo>
                <a:lnTo>
                  <a:pt x="21600" y="133842"/>
                </a:lnTo>
                <a:lnTo>
                  <a:pt x="0" y="133842"/>
                </a:lnTo>
                <a:close/>
              </a:path>
              <a:path fill="lightenLess" w="21600" h="13384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3842">
                <a:moveTo>
                  <a:pt x="21600" y="0"/>
                </a:moveTo>
                <a:lnTo>
                  <a:pt x="21600" y="133842"/>
                </a:lnTo>
                <a:lnTo>
                  <a:pt x="20200" y="132443"/>
                </a:lnTo>
                <a:lnTo>
                  <a:pt x="20200" y="1400"/>
                </a:lnTo>
                <a:close/>
              </a:path>
              <a:path fill="darkenLess" w="21600" h="133842">
                <a:moveTo>
                  <a:pt x="21600" y="133842"/>
                </a:moveTo>
                <a:lnTo>
                  <a:pt x="0" y="133842"/>
                </a:lnTo>
                <a:lnTo>
                  <a:pt x="1400" y="132443"/>
                </a:lnTo>
                <a:lnTo>
                  <a:pt x="20200" y="132443"/>
                </a:lnTo>
                <a:close/>
              </a:path>
              <a:path fill="lighten" w="21600" h="133842">
                <a:moveTo>
                  <a:pt x="0" y="133842"/>
                </a:moveTo>
                <a:lnTo>
                  <a:pt x="0" y="0"/>
                </a:lnTo>
                <a:lnTo>
                  <a:pt x="1400" y="1400"/>
                </a:lnTo>
                <a:lnTo>
                  <a:pt x="1400" y="1324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84" name="Picture 1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590920" y="1077840"/>
            <a:ext cx="43434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literacywithoutlimits.org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Left Arrow 5"/>
          <p:cNvSpPr/>
          <p:nvPr/>
        </p:nvSpPr>
        <p:spPr>
          <a:xfrm>
            <a:off x="2133720" y="11430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0" y="3886200"/>
            <a:ext cx="91440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on a CD-ROM and the web, this P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content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ented in the Electronic Field Trip to a Watershed with models of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mplary instruction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atures Kentucky teachers demonstrating scientific study as well as 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awareness and prevention of non point source water pollution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s teachers and students engaged in authentic activities, in both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oor and outdoor classrooms and at streams, creeks, and other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tersheds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2057400" y="33526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Raindropstorivers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0" name="Action Button: Custom 7">
            <a:hlinkClick r:id="rId3"/>
          </p:cNvPr>
          <p:cNvSpPr/>
          <p:nvPr/>
        </p:nvSpPr>
        <p:spPr>
          <a:xfrm>
            <a:off x="2133720" y="342900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5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10-24T13:19:30Z</dcterms:modified>
  <cp:revision>205</cp:revision>
  <dc:subject/>
  <dc:title>Slide 1</dc:title>
</cp:coreProperties>
</file>